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306-ADD5-4049-A4E8-74B66258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9D2-5126-4F59-BAA3-2B6E355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77E-8F32-42AC-8DBD-C0D332D8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415-B1F0-4312-8907-E8304297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769-0FE9-48EA-9035-A21996E8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A37-02CD-49DA-9E87-F337D308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7C0-C36B-4B2B-B3F1-FD823478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2F4-1B32-4856-9403-D58D0908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AC4-5E5D-4B7D-B829-03B467ED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396-FE5E-417A-B63E-6F969C5F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24D-5F14-4885-8B30-E2706FCB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E85-F078-40E6-8389-DBFC587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3EE7-1910-4D20-A883-10D257477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elfalt-als-chance.de/" TargetMode="External"/><Relationship Id="rId2" Type="http://schemas.openxmlformats.org/officeDocument/2006/relationships/hyperlink" Target="http://www.vielfalt-als-chance.de/index.php?id=296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Diversity in German Speak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ultural 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37160" y="5410080"/>
            <a:ext cx="18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eph San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 Germa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600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elfalt-als-chance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ielfalt-als-chance.de/index.php?id=2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henkel.com/SID-3FE70255-FF9BC587/about-henkel/rewards-and-voluntary-declarations-of-intent-33085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ofia.diplo.de/Vertretung/sofia/de/06/Kultureles_20Leben__in__Deutschland/Vielfal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uropa.eu/about-eu/countries/images/germany_map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iversity-charter.com/pics/logo_Charte_suedois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erman-business-etiquette.com/img/15-german-stereotypes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ssimilation is basically the integration of an ethnic group or a group of immigrants into anothe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489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it is believed that different ethnicities effect assimilation that is not quit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mmigrant group, whether they are poor or rich, will be clum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thnic group can assimilate into German culture easier if they speak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elieve that class lines determine whether or not a particular peoples will blend into the German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, it is actually the type of jobs the immigrants receive that will determine whether or not they assimilate or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amily only has a three year permit and receives work at a specialized job they are less likely to assimilate at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group of immigrants in Germany is the Turks who make up 1.9 million of the German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urks adapt to the German language by combining their own language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6920" y="4343400"/>
            <a:ext cx="308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of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rman Diversity Charter was created in December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joined the Charter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n more than 1,000 companies have jo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national company Henkel AG and Co. joined the cause of the Diversity Cha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of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ter is designed to promote diversity and eliminate prejudice in the work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charter a person of any race, gender, nationality, ethnicity, religion, disability, or age is apprec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nt workers from around Germany now have stable jobs at workplaces that promote the Cha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mil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how many companies have joined the Charter’s ca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Charter of Diversity do companies have the right to be racist to their employe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largest factor determining whether or not an immigrant group will assimilate to German culture 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97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milation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1,000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Under the Charter companies are less racist and more accep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amily can speak German they will have a greater chance to assimilate to German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2:07Z</dcterms:created>
  <dc:creator>SCSadmin</dc:creator>
  <dc:description/>
  <dc:language>en-US</dc:language>
  <cp:lastModifiedBy>SCSadmin</cp:lastModifiedBy>
  <dcterms:modified xsi:type="dcterms:W3CDTF">2011-08-26T12:20:49Z</dcterms:modified>
  <cp:revision>6</cp:revision>
  <dc:subject/>
  <dc:title>Cultural Diversity in German Speaking Countries</dc:title>
</cp:coreProperties>
</file>